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C78-B8D8-4B6A-A29F-5F35D2B3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362-D0E9-4B39-9807-596D359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499-2C26-40FD-A4CA-FF4310C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5E7-316A-49BB-AF34-8957D918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840-C58E-42F1-9E37-097C780E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14D6-EAD5-43A0-BB94-2DEC504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FFE-CD64-4890-95C3-1BE12A7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9EB7-0B7F-4BFD-AAD9-68B8910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27E-03EF-43F8-84AF-0AABCC1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EFF-E7E6-4081-9452-B49FD0D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C77-CE74-40A8-B31E-D1855CB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500-61FE-47CA-8124-F5A827F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08F-1C88-4450-92F1-8C642B4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1C4D-A0FE-4668-84ED-0AE208A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A90-74D7-4D21-9F38-B8FEB01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305C-FDA0-4C30-8F2C-5AB9F63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2781-3165-498B-9D5E-ADDC78A1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C1C-0D8D-4972-90EA-8112169F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EA1-FCE3-43C2-824D-B631C0D4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424-6FFE-4FAA-AC39-D5EFC49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8FC-C7B5-41D9-BCE1-979654C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EA8-C911-41A8-BA28-0E4207A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F51-8F5C-46CE-A6C8-8372AC0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F84-37D6-4906-B9BB-FA429792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E69-0A59-48CE-9F69-5983CB7A0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259B-CFD6-4BCE-B015-FEDEDBAEC4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Быт и нравы Древней Руси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85920" y="4021200"/>
            <a:ext cx="66708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684d"/>
                </a:solidFill>
                <a:latin typeface="Arial"/>
              </a:rPr>
              <a:t>Учитель истории МОУ «СОШ с.Анастасьино Калининского района Саратовской области» Осфальд Ксения Александров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2876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житочные горожане жили в срубах, нередко двухэтажных. Первый этаж был хозяйственным, верхний – жилым. Здания состояли из нескольких комнат, в них были деревянные кровати, скамьи, столы, лари для одеж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есленный люд обитал на городских окраинах в слободах, состоящих из рубленных деревянных изб или глинобитных дом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429000" y="3571920"/>
            <a:ext cx="47862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387180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857160" y="429120"/>
            <a:ext cx="76438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ьяне  жили в небольших домах - полуземлянках. Окна, прорубленные в стенах на ночь и в холода, закрывали досками или соломой. В углу находилась, сложенная из камня печь - она обогревала дом, на ней же готовили еду. Печь топилась «по-черному» – это значит, что дымовой трубы не было, и печ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ым выходил через дверь или отверстие в пото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7143840" y="242892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3000240" y="3857760"/>
            <a:ext cx="4286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428760"/>
            <a:ext cx="83152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оме свободное место занимали стол и две-три деревянные лавки. В углу лежало несколько охапок сена, покрытых звериными шкурами - это постели. Как ни просто устроено жилье, в нем можно укрыться от  непогоды и дикого зверя, согреться у печи и сварить е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4286160" cy="4643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714920" y="1857240"/>
            <a:ext cx="4102200" cy="4604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6"/>
          <p:cNvSpPr/>
          <p:nvPr/>
        </p:nvSpPr>
        <p:spPr>
          <a:xfrm>
            <a:off x="2428920" y="6286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000"/>
                </a:solidFill>
                <a:latin typeface="Times New Roman"/>
                <a:ea typeface="Times New Roman"/>
              </a:rPr>
              <a:t>Предметы интерьера жилого помещения, меб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Одежд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8556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м элементом древнерусской мужской одежды были рубаха и порты. Так же они одевали зипуны, кожух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горожанок и крестьянок главной частью костюма была длинная холщевая рубашка и понев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3286080" cy="571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3571920" y="3429000"/>
            <a:ext cx="2214360" cy="318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571680" y="3643200"/>
            <a:ext cx="2428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572000" y="857160"/>
            <a:ext cx="2857680" cy="1648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41600" cy="304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7072200" y="3643200"/>
            <a:ext cx="1190880" cy="18576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0"/>
          <p:cNvSpPr/>
          <p:nvPr/>
        </p:nvSpPr>
        <p:spPr>
          <a:xfrm>
            <a:off x="857160" y="3929040"/>
            <a:ext cx="2000520" cy="71424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оги из сафь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6715080" y="5929200"/>
            <a:ext cx="2000160" cy="28584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п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14"/>
          <p:cNvSpPr/>
          <p:nvPr/>
        </p:nvSpPr>
        <p:spPr>
          <a:xfrm>
            <a:off x="4929120" y="2714760"/>
            <a:ext cx="2000160" cy="2854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кош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3643200" y="3214800"/>
            <a:ext cx="2922840" cy="2421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8"/>
          <p:cNvSpPr/>
          <p:nvPr/>
        </p:nvSpPr>
        <p:spPr>
          <a:xfrm>
            <a:off x="4929120" y="2714760"/>
            <a:ext cx="2000160" cy="2854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кош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1"/>
          <p:cNvSpPr/>
          <p:nvPr/>
        </p:nvSpPr>
        <p:spPr>
          <a:xfrm>
            <a:off x="3000240" y="5786280"/>
            <a:ext cx="2000520" cy="28584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851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00"/>
                </a:solidFill>
                <a:latin typeface="Arial Black"/>
              </a:rPr>
              <a:t>Литератур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214280"/>
            <a:ext cx="80074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otvetin.ru/iskusstvo/12376-kto-takie-skoromoxi.html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brakonyerov.net/forum/28-743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blogs.mail.ru/list/alex1752/favor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fio.vrn.ru/2004/1/bit_tor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kidsoft.ru/arch2005/files/web_design/wd_24/bit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http://folkler.ru/kostyum/odegda_drevnih_slavj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gorod.tomsk.ru/index-1244685647.ph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gorod.tomsk.ru/blog?page_num=1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folkler.ru/kostyum/odegda_drevnih_slavja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batumionline.net/forums/index.php?showtopic=1799&amp;st=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eththa.com/third/slav/196-2009-10-29-17-50-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poetree.ru/news/1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licey102.k26.ru/costume/Ubor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shkimsin.ru/chayxana/topic5581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profession.krsnet.ru/fest/2009/works/bort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wiatka.ru/index.php?option=com_user&amp;view=register&amp;Itemid=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www.int-edu.ru/history/Holid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www.fotoq.ru/view.php?i=72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all-pages.com/city_photo/1/7/9/546/26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www.dobrodom.ru/library/vchera/index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http://virtual.cie.ru/mod/resource/view.php?id=5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scoolnag.narod.r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festival.1september.ru/articles/100321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Цели урока:</a:t>
            </a:r>
            <a:r>
              <a:rPr b="1" lang="ru-RU" sz="4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6760" y="1356840"/>
            <a:ext cx="84884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формировать у учащихся представление о быте и нравах древних славя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знакомить с внешним видом славян, их жилищем, одеждой, военным дел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устную речь, мышление, расширять кругоз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вивать интерес к истории Отечества, воспитывать умение слушать товари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64296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Повседневная жизнь земледельцев и горожа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ая часть населения Руси прошивала в сельской местности. Люди распахивали новые земли, разводили скот, бортничали, охотились. Часть населения Руси проживала в городах. Там проживали князья, княжеская друж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Жили славяне большими семья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9ff66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786120" y="3643200"/>
            <a:ext cx="462132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357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0004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Жизнь в гор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ах князья с помощниками правили суд, управляли землями, принимали иностранных послов. Постепенно города на Руси стали расти, и становились торговыми и ремесленными центрами.  Здесь сооружались храмы, жили и исполняли службы митрополиты и епископы, стояли крупные монастыри. По большим и малым городам Руси шумели тор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 rot="338400">
            <a:off x="4696920" y="3947760"/>
            <a:ext cx="364356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 rot="20920200">
            <a:off x="233280" y="4043160"/>
            <a:ext cx="3624480" cy="2739960"/>
          </a:xfrm>
          <a:prstGeom prst="rect">
            <a:avLst/>
          </a:prstGeom>
          <a:ln w="0">
            <a:noFill/>
          </a:ln>
        </p:spPr>
      </p:pic>
      <p:pic>
        <p:nvPicPr>
          <p:cNvPr id="108" name="1.mp3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32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00"/>
                </a:solidFill>
                <a:latin typeface="Arial Black"/>
              </a:rPr>
              <a:t>Забавы и развлечения в древней Рус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4300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лечением знати были охота и богатые дружинные пи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имыми забавами богатых людей были соколиная, ястребиная и псовая  охо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стого люда устраивались скачки, турниры, различные игрищ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 rot="21097200">
            <a:off x="212760" y="2796840"/>
            <a:ext cx="4524480" cy="347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 rot="802800">
            <a:off x="4239720" y="3041280"/>
            <a:ext cx="45259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Гостей на пирах развлекали скоморохи и гусляры.</a:t>
            </a:r>
            <a:endParaRPr b="1" lang="en-US" sz="43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2864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Военное дело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85560"/>
            <a:ext cx="4614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ое место в жизни людей занимали различные военные дела. Профессиональными воинами были княжеские дружинники. Вооружены они были:   </a:t>
            </a:r>
            <a:r>
              <a:rPr b="1" lang="ru-RU" sz="18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копьями, мечами, саблями</a:t>
            </a:r>
            <a:r>
              <a:rPr b="0" lang="ru-RU" sz="18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ы воинов защищали шишаки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конечные шл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Защитными средствам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же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, броня или кольчуга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больших военных походов собиралось народное ополч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143680" y="1214280"/>
            <a:ext cx="3571560" cy="538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128592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400" y="571680"/>
            <a:ext cx="771516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лены войска -  вои – вооружались попроще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, колчан со стрелами, нож, копьё либо тяжелый боевой топор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5d00"/>
                </a:solidFill>
                <a:latin typeface="Arial"/>
              </a:rPr>
              <a:t>ВОЙСКО В ПОХ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286240" y="1428840"/>
            <a:ext cx="3414960" cy="514332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10"/>
          <p:cNvSpPr/>
          <p:nvPr/>
        </p:nvSpPr>
        <p:spPr>
          <a:xfrm>
            <a:off x="1500120" y="1643040"/>
            <a:ext cx="1643040" cy="785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 вверх 11"/>
          <p:cNvSpPr/>
          <p:nvPr/>
        </p:nvSpPr>
        <p:spPr>
          <a:xfrm>
            <a:off x="2357280" y="2500200"/>
            <a:ext cx="46080" cy="28584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12"/>
          <p:cNvSpPr/>
          <p:nvPr/>
        </p:nvSpPr>
        <p:spPr>
          <a:xfrm>
            <a:off x="1428840" y="2928960"/>
            <a:ext cx="1928880" cy="642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ж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верх 13"/>
          <p:cNvSpPr/>
          <p:nvPr/>
        </p:nvSpPr>
        <p:spPr>
          <a:xfrm>
            <a:off x="2357280" y="3714840"/>
            <a:ext cx="142920" cy="285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14"/>
          <p:cNvSpPr/>
          <p:nvPr/>
        </p:nvSpPr>
        <p:spPr>
          <a:xfrm>
            <a:off x="1214280" y="4071960"/>
            <a:ext cx="2571840" cy="642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и – народное опол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трелка вверх 15"/>
          <p:cNvSpPr/>
          <p:nvPr/>
        </p:nvSpPr>
        <p:spPr>
          <a:xfrm flipH="1">
            <a:off x="2356560" y="4857840"/>
            <a:ext cx="142920" cy="285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16"/>
          <p:cNvSpPr/>
          <p:nvPr/>
        </p:nvSpPr>
        <p:spPr>
          <a:xfrm>
            <a:off x="1214280" y="5214960"/>
            <a:ext cx="2571840" cy="642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Жилище.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2560" y="1071720"/>
            <a:ext cx="44290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Прямая со стрелкой 5"/>
          <p:cNvCxnSpPr/>
          <p:nvPr/>
        </p:nvCxnSpPr>
        <p:spPr>
          <a:xfrm flipH="1">
            <a:off x="928080" y="1571760"/>
            <a:ext cx="572040" cy="64332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  <p:cxnSp>
        <p:nvCxnSpPr>
          <p:cNvPr id="131" name="Прямая со стрелкой 9"/>
          <p:cNvCxnSpPr/>
          <p:nvPr/>
        </p:nvCxnSpPr>
        <p:spPr>
          <a:xfrm flipH="1">
            <a:off x="2214360" y="1714320"/>
            <a:ext cx="2160" cy="85788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>
            <a:off x="2927880" y="1643040"/>
            <a:ext cx="500760" cy="64332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  <p:sp>
        <p:nvSpPr>
          <p:cNvPr id="133" name="Прямоугольник 12"/>
          <p:cNvSpPr/>
          <p:nvPr/>
        </p:nvSpPr>
        <p:spPr>
          <a:xfrm>
            <a:off x="285840" y="2643120"/>
            <a:ext cx="1071360" cy="64296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>
            <a:off x="1714680" y="2643120"/>
            <a:ext cx="1071360" cy="64296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у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2928960" y="2643120"/>
            <a:ext cx="1785960" cy="64296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земля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285840" y="4071960"/>
            <a:ext cx="1071360" cy="128592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князей и боя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1714680" y="4071960"/>
            <a:ext cx="1071360" cy="128592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горож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7"/>
          <p:cNvSpPr/>
          <p:nvPr/>
        </p:nvSpPr>
        <p:spPr>
          <a:xfrm>
            <a:off x="3286080" y="4071960"/>
            <a:ext cx="1214640" cy="13572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кресть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786200" y="1357200"/>
            <a:ext cx="4143600" cy="44290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9"/>
          <p:cNvSpPr/>
          <p:nvPr/>
        </p:nvSpPr>
        <p:spPr>
          <a:xfrm>
            <a:off x="6000840" y="5786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7b"/>
                </a:solidFill>
                <a:latin typeface="Times New Roman"/>
                <a:ea typeface="Times New Roman"/>
              </a:rPr>
              <a:t>Княжеские хоро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Прямая со стрелкой 20"/>
          <p:cNvCxnSpPr/>
          <p:nvPr/>
        </p:nvCxnSpPr>
        <p:spPr>
          <a:xfrm flipH="1">
            <a:off x="712440" y="3430080"/>
            <a:ext cx="2160" cy="50076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2214360" y="3428640"/>
            <a:ext cx="2160" cy="50076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  <p:sp>
        <p:nvSpPr>
          <p:cNvPr id="143" name="Содержимое 3"/>
          <p:cNvSpPr/>
          <p:nvPr/>
        </p:nvSpPr>
        <p:spPr>
          <a:xfrm>
            <a:off x="214200" y="1285920"/>
            <a:ext cx="44290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Прямая со стрелкой 23"/>
          <p:cNvCxnSpPr/>
          <p:nvPr/>
        </p:nvCxnSpPr>
        <p:spPr>
          <a:xfrm flipH="1">
            <a:off x="3785400" y="3428640"/>
            <a:ext cx="2520" cy="500760"/>
          </a:xfrm>
          <a:prstGeom prst="straightConnector1">
            <a:avLst/>
          </a:prstGeom>
          <a:ln w="9360">
            <a:solidFill>
              <a:srgbClr val="98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5:52:11Z</dcterms:created>
  <dc:creator>Осфальд К.А.</dc:creator>
  <dc:description/>
  <dc:language>en-US</dc:language>
  <cp:lastModifiedBy>алексей</cp:lastModifiedBy>
  <dcterms:modified xsi:type="dcterms:W3CDTF">2010-04-12T18:27:14Z</dcterms:modified>
  <cp:revision>38</cp:revision>
  <dc:subject/>
  <dc:title>Слайд 1</dc:title>
</cp:coreProperties>
</file>